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390-79BB-4163-88E7-28E3FE34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589-FA68-41AD-B7E7-52A9F43C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30D-7435-432A-AFF8-73172A2A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0A2-A4D8-4B53-BFA9-26AD5ABB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729-988E-4779-900F-ACEE3355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B36-11A7-456E-AD40-3855B448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98B-C935-469D-B223-420F63C0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0B9-7B16-4E80-9E5C-45D45E66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DE4-95A5-495B-9375-7C9E7514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E61-6CB3-4502-B629-34D4EAFF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D56-9D8F-4E74-B5EB-640B8EC8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14E-1403-4D57-8174-20F828AD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A32A-D107-40CF-BB57-8D0B39498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siDyn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20:07:47Z</dcterms:created>
  <dc:creator>Jamie Fleming</dc:creator>
  <dc:description/>
  <dc:language>en-US</dc:language>
  <cp:lastModifiedBy>Jamie Fleming</cp:lastModifiedBy>
  <dcterms:modified xsi:type="dcterms:W3CDTF">2009-07-07T20:09:37Z</dcterms:modified>
  <cp:revision>1</cp:revision>
  <dc:subject/>
  <dc:title>SirsiDynix</dc:title>
</cp:coreProperties>
</file>